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70F-90EC-4D20-8DEE-B941A5FE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FDA-864E-4DC3-9AC5-C2440AE0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DFD-E386-4635-967A-D140230B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16E-1564-4F67-82D2-46696A14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D30-11E2-469E-A984-C9600623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AC9-8B95-4230-A9A3-E0A20089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693-AE80-482C-B99F-329D56B6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B17-7F6D-4E6F-965C-A4BD2A96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E07-40C0-4BA8-A1DA-90A633DC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723-50AB-4A2E-812A-8A66F455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817-1601-436B-AFCB-748D6629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4FA-520A-4A06-81E9-860DEDF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4F2C-3784-4754-968E-A46D89F76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28 Sept 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day: Intro to on-line text and accel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mework: Read section 2.2 p 48-5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xt address: http://my.hrw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morrow: We will derive the equations of motion presented in this section in cl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 you need a hard copy of the book – please let me know – you can get one in class, or see me after (or before) sch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e must reach a speed of 100 m/s at take off. If it takes 10 seconds to get down the runway, how long does the runway have to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on lift off, a rocket ship accelerates at a rate of 1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How fast is it travelling when it reaches a height of 10,000 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1 Oct 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: Independent time to work on assignments – please check out the new assignments posted on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 Continue assignments – Notebook check tomorrow – Don’t forget your composition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2 Oct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to free f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question: If something accelerates from rest at a rate of 10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ow fast is it travelling after 5 secon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section 3 in chapter 2 (p60-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week: Free-fall lab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ehind the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know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=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+ ½ a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rop something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0, so the equation reduces to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= ½ 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rearrange with a on the left you 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2d/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ts you find the acceleration of an object due to gravity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lso determine the slope of a graph of v vs. t to get a. We will do this to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leration (p 48-4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eration is the rate of change of velocity with respect to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/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ce how this form looks similar to that of velocity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/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as the slope of x vs t is velocity, the slope of v vs t is acceleration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mat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can accelerate at a rate of 2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How long will it take for the car to reach a speed of 30 m/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ate of acceleration for a car that slows from 30 m/s to a stop in three secon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29 Sept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: deriving the equations of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out the new assignments that are posted on the w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sure the entire derivations we do together in class are in your notebook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work on assig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 of linear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 = displacement (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= time of travel (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= rate of constant accel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initial veloc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final veloc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 of linear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av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/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av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/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30 Sept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: Using the equations of motion and the logical problem solving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 Section review, page 59 – answer in composition 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ebook check on Fri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Steps in Problem Solv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what you are looking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what you know (state your variab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quation(s) you need from the variables you have (and don’t ha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rrange equations to solve for the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any unit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g and ch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your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travelling at 10.0 m/s accelerates at a rate of 2.5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a final velocity of 20. m/s. How long does it take for this to occ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1:17:39Z</dcterms:created>
  <dc:creator>sebastian interlandi</dc:creator>
  <dc:description/>
  <dc:language>en-US</dc:language>
  <cp:lastModifiedBy>sebastian interlandi</cp:lastModifiedBy>
  <dcterms:modified xsi:type="dcterms:W3CDTF">2009-10-02T18:59:04Z</dcterms:modified>
  <cp:revision>9</cp:revision>
  <dc:subject/>
  <dc:title>Honors Physics 28 Sept 09</dc:title>
</cp:coreProperties>
</file>